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9.png" ContentType="image/png"/>
  <Override PartName="/ppt/media/image19.png" ContentType="image/png"/>
  <Override PartName="/ppt/media/image1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png" ContentType="image/png"/>
  <Override PartName="/ppt/media/image2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EEF0-D13A-405F-B257-625AB38F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D69B-C526-484E-ADDF-32454752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DB89-4FC7-4CFC-B41A-1D47D82B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80C9-BE87-45BC-AB5A-09E3C0C47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8330-313A-4DC0-8567-1FF561B8E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6CD1-F0F7-486C-9719-CDD171D4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2350-ACBE-4932-A67D-DE340777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E3A2-5AB3-4203-9F36-8606BDFD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088B-A13A-4452-95E7-8F5DE381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8C71-1ECB-403A-99FD-041B203A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BE08-9446-44DD-90DC-6976A8D3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47A3-B351-43B2-BCBE-F52360BE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64FA-7B89-4166-B4D7-8F7AF18D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AED5-D4CD-4001-B7E3-077C9D47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1775-A9A2-402D-B186-B83D8625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31DA-BFCB-4EA8-8C2D-2C45BB198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5554-3098-46A5-B528-13ED7624E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A9ED8-13D7-45C4-9EAF-993BF44B9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3817F-E276-4282-854B-7C69740D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3E6CA-4D82-4264-A8A1-7052AC35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FC988-40AB-485F-A462-1CD95678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AD000-9B55-4A54-A4F8-C0F960BC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3BBF-765C-48E2-8529-CF1590EF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AD124-DC14-4286-9319-A337BAD8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860A4-1739-473D-9DDB-58B55FA1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A6130-4841-4BC1-B673-4AB7D599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5E254-5A26-457D-884A-8524DD00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DF09A-FE8E-418D-A1C5-929E131E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B8C25-1B13-47A3-ADF0-47FAE663F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38BE7-F051-48CE-A873-6046E4869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F5522-8CB4-41EA-B992-989A1A4A1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EC3CD-D618-40EA-8329-9E33CBB5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24CFE-F93D-48A2-AB47-D82BA1F3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8038-3762-4E6F-8E8D-AD174AF7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E268A-E06E-400E-AA45-A76F5C6C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7219C-FC40-47DD-AD08-E098B002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81BA7-39BB-4DE6-ABD1-412E9BFF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670E9-5365-4045-AF43-FB4F3476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C6ED2-92E9-4E3B-AAA4-32F54636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7150B-457F-43F3-8DC4-C4111750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A6E8B-F05B-4507-99AF-3B6073B4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0F581-13D7-4B9F-A705-ECCE42581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2A73B-BC70-45CB-AEC1-320A248B1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1227C-9C38-4122-A0F5-28B23EE36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E056-CF5F-444D-81A8-9F6005A4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4FF84-0A8C-4420-BD58-37134E71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C9EDD-26AD-4A14-964D-812F8C00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13A6E-23D8-4A73-9E4B-F654C479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3C46F-77AF-4EFA-96A3-F47A0579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80A50-60C1-4913-A689-1F1535A1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D2755-4632-49BA-9408-639F03B7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47B42-2682-434D-9503-F92C44FC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0A827-3EC5-4F5C-AD48-E1C690E1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5AAC8-BEC2-44F2-A321-5B8E7A37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7C003-22F1-4283-A316-C687137AB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A09A-46C2-417B-B3DB-E537FB7D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A7B83-A02A-49E5-AAA0-BD9D77AC5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3CFA-1A10-453C-9809-A0A043A5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E6CE-B245-4B7A-82FC-B0007AB0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177F-8FB3-46EE-98D9-E152392C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Flowchart: Document 6"/>
          <p:cNvGrpSpPr/>
          <p:nvPr/>
        </p:nvGrpSpPr>
        <p:grpSpPr>
          <a:xfrm>
            <a:off x="-6480" y="792000"/>
            <a:ext cx="9156960" cy="5919840"/>
            <a:chOff x="-6480" y="792000"/>
            <a:chExt cx="9156960" cy="5919840"/>
          </a:xfrm>
        </p:grpSpPr>
        <p:pic>
          <p:nvPicPr>
            <p:cNvPr id="1" name="Flowchart: Document 6" descr=""/>
            <p:cNvPicPr/>
            <p:nvPr/>
          </p:nvPicPr>
          <p:blipFill>
            <a:blip r:embed="rId2"/>
            <a:stretch/>
          </p:blipFill>
          <p:spPr>
            <a:xfrm>
              <a:off x="-6480" y="79200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4" name="Flowchart: Document 7" descr=""/>
            <p:cNvPicPr/>
            <p:nvPr/>
          </p:nvPicPr>
          <p:blipFill>
            <a:blip r:embed="rId3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11D0-66B4-4FD8-B84F-9A9F5E388CC3}" type="datetime">
              <a:rPr b="0" lang="en-US" sz="1200" spc="-1" strike="noStrike">
                <a:solidFill>
                  <a:srgbClr val="bcb7a8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Corbel"/>
              </a:rPr>
              <a:t>To &amp; Bessa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22D9-3245-492B-9030-CF8BC72C65BF}" type="slidenum">
              <a:rPr b="0" lang="en-US" sz="1400" spc="-1" strike="noStrike">
                <a:solidFill>
                  <a:srgbClr val="bcb7a8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Flowchart: Document 6"/>
          <p:cNvGrpSpPr/>
          <p:nvPr/>
        </p:nvGrpSpPr>
        <p:grpSpPr>
          <a:xfrm>
            <a:off x="-6480" y="792000"/>
            <a:ext cx="9156960" cy="5919840"/>
            <a:chOff x="-6480" y="792000"/>
            <a:chExt cx="9156960" cy="5919840"/>
          </a:xfrm>
        </p:grpSpPr>
        <p:pic>
          <p:nvPicPr>
            <p:cNvPr id="48" name="Flowchart: Document 6" descr=""/>
            <p:cNvPicPr/>
            <p:nvPr/>
          </p:nvPicPr>
          <p:blipFill>
            <a:blip r:embed="rId2"/>
            <a:stretch/>
          </p:blipFill>
          <p:spPr>
            <a:xfrm>
              <a:off x="-6480" y="79200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51" name="Flowchart: Document 7" descr=""/>
            <p:cNvPicPr/>
            <p:nvPr/>
          </p:nvPicPr>
          <p:blipFill>
            <a:blip r:embed="rId3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" name="Flowchart: Document 6"/>
          <p:cNvGrpSpPr/>
          <p:nvPr/>
        </p:nvGrpSpPr>
        <p:grpSpPr>
          <a:xfrm>
            <a:off x="-6480" y="1170000"/>
            <a:ext cx="9156960" cy="3792600"/>
            <a:chOff x="-6480" y="1170000"/>
            <a:chExt cx="9156960" cy="3792600"/>
          </a:xfrm>
        </p:grpSpPr>
        <p:pic>
          <p:nvPicPr>
            <p:cNvPr id="54" name="Flowchart: Document 6" descr=""/>
            <p:cNvPicPr/>
            <p:nvPr/>
          </p:nvPicPr>
          <p:blipFill>
            <a:blip r:embed="rId4"/>
            <a:stretch/>
          </p:blipFill>
          <p:spPr>
            <a:xfrm>
              <a:off x="-6480" y="1170000"/>
              <a:ext cx="9156960" cy="379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rot="10800000">
              <a:off x="0" y="1520640"/>
              <a:ext cx="9144000" cy="34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B09D-8FCF-4601-8A9B-1C8A9074900D}" type="datetime">
              <a:rPr b="0" lang="en-US" sz="1200" spc="-1" strike="noStrike">
                <a:solidFill>
                  <a:srgbClr val="bcb7a8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Corbel"/>
              </a:rPr>
              <a:t>To &amp; Bessa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F0B9-F0E3-4591-9738-8AE899AFC9EA}" type="slidenum">
              <a:rPr b="0" lang="en-US" sz="1400" spc="-1" strike="noStrike">
                <a:solidFill>
                  <a:srgbClr val="bcb7a8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76FA-E724-42FE-9AC7-A7F5A09BD75A}" type="datetime">
              <a:rPr b="0" lang="en-US" sz="1200" spc="-1" strike="noStrike">
                <a:solidFill>
                  <a:srgbClr val="bcb7a8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Corbel"/>
              </a:rPr>
              <a:t>To &amp; Bessa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0AC4-ABEE-4F62-8C01-CF1953EA263B}" type="slidenum">
              <a:rPr b="0" lang="en-US" sz="1400" spc="-1" strike="noStrike">
                <a:solidFill>
                  <a:srgbClr val="bcb7a8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E762-8FD3-4627-B18C-1FCE0C8EBFE1}" type="datetime">
              <a:rPr b="0" lang="en-US" sz="1200" spc="-1" strike="noStrike">
                <a:solidFill>
                  <a:srgbClr val="bcb7a8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Corbel"/>
              </a:rPr>
              <a:t>To &amp; Bessa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06F5-A9BF-4239-BB56-E830F2FC4DE1}" type="slidenum">
              <a:rPr b="0" lang="en-US" sz="1400" spc="-1" strike="noStrike">
                <a:solidFill>
                  <a:srgbClr val="bcb7a8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10C1-CC2D-46BC-B33D-F8A610403FC8}" type="datetime">
              <a:rPr b="0" lang="en-US" sz="1200" spc="-1" strike="noStrike">
                <a:solidFill>
                  <a:srgbClr val="bcb7a8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Corbel"/>
              </a:rPr>
              <a:t>To &amp; Bessa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C337-C913-4BB7-B6F7-30C2E82EAD65}" type="slidenum">
              <a:rPr b="0" lang="en-US" sz="1400" spc="-1" strike="noStrike">
                <a:solidFill>
                  <a:srgbClr val="bcb7a8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146160" y="1560600"/>
            <a:ext cx="8242200" cy="2365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5105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HS8803 ED of the Future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October 28, 2008 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0" y="5181480"/>
            <a:ext cx="38098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rbel"/>
              </a:rPr>
              <a:t>Presented by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Kelly To (Health Systems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Malek Bessaad (Architectur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2"/>
          <a:srcRect l="2497" t="3267" r="2497" b="5181"/>
          <a:stretch/>
        </p:blipFill>
        <p:spPr>
          <a:xfrm>
            <a:off x="4800600" y="3657600"/>
            <a:ext cx="4343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Date Placeholder 2"/>
          <p:cNvSpPr/>
          <p:nvPr/>
        </p:nvSpPr>
        <p:spPr>
          <a:xfrm>
            <a:off x="45720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BABC-A745-409A-88AC-09FD9B4B89F6}" type="datetime">
              <a:rPr b="0" lang="en-US" sz="1200" spc="-1" strike="noStrike">
                <a:solidFill>
                  <a:srgbClr val="000000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Footer Placeholder 3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To &amp; Bessa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Slide Number Placeholder 4"/>
          <p:cNvSpPr/>
          <p:nvPr/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DC0F-2E3E-4127-AA96-25A8F40F83B6}" type="slidenum">
              <a:rPr b="0" lang="en-US" sz="1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3"/>
          <p:cNvSpPr/>
          <p:nvPr/>
        </p:nvSpPr>
        <p:spPr>
          <a:xfrm>
            <a:off x="1752480" y="4114800"/>
            <a:ext cx="5791320" cy="1434600"/>
          </a:xfrm>
          <a:prstGeom prst="rect">
            <a:avLst/>
          </a:prstGeom>
          <a:gradFill rotWithShape="0">
            <a:gsLst>
              <a:gs pos="0">
                <a:srgbClr val="ffeab2"/>
              </a:gs>
              <a:gs pos="100000">
                <a:srgbClr val="fff7e6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Benefi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ysical and emotional Comf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perience personaliz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e or eliminate environmental stress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8" name="Group 17"/>
          <p:cNvGrpSpPr/>
          <p:nvPr/>
        </p:nvGrpSpPr>
        <p:grpSpPr>
          <a:xfrm>
            <a:off x="457200" y="838080"/>
            <a:ext cx="8305920" cy="2539080"/>
            <a:chOff x="457200" y="838080"/>
            <a:chExt cx="8305920" cy="2539080"/>
          </a:xfrm>
        </p:grpSpPr>
        <p:pic>
          <p:nvPicPr>
            <p:cNvPr id="279" name="Picture 2" descr="C:\Users\My Ngoc\Desktop\Ti Stuffs\universal room\decorative lights.jpg"/>
            <p:cNvPicPr/>
            <p:nvPr/>
          </p:nvPicPr>
          <p:blipFill>
            <a:blip r:embed="rId1"/>
            <a:stretch/>
          </p:blipFill>
          <p:spPr>
            <a:xfrm>
              <a:off x="6469200" y="838080"/>
              <a:ext cx="2293920" cy="187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3" descr="C:\Users\My Ngoc\Desktop\Ti Stuffs\universal room\ambient light.jpg"/>
            <p:cNvPicPr/>
            <p:nvPr/>
          </p:nvPicPr>
          <p:blipFill>
            <a:blip r:embed="rId2"/>
            <a:stretch/>
          </p:blipFill>
          <p:spPr>
            <a:xfrm>
              <a:off x="457200" y="838080"/>
              <a:ext cx="2373120" cy="18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4" descr="C:\Users\My Ngoc\Desktop\Ti Stuffs\universal room\focal light.jpg"/>
            <p:cNvPicPr/>
            <p:nvPr/>
          </p:nvPicPr>
          <p:blipFill>
            <a:blip r:embed="rId3"/>
            <a:stretch/>
          </p:blipFill>
          <p:spPr>
            <a:xfrm>
              <a:off x="3463200" y="838080"/>
              <a:ext cx="2403000" cy="189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Box 14"/>
            <p:cNvSpPr/>
            <p:nvPr/>
          </p:nvSpPr>
          <p:spPr>
            <a:xfrm>
              <a:off x="6469200" y="2712960"/>
              <a:ext cx="229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Decorative Light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Personal touch”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TextBox 15"/>
            <p:cNvSpPr/>
            <p:nvPr/>
          </p:nvSpPr>
          <p:spPr>
            <a:xfrm>
              <a:off x="3316320" y="2733840"/>
              <a:ext cx="255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Focal Light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Focus; high intensity”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TextBox 16"/>
            <p:cNvSpPr/>
            <p:nvPr/>
          </p:nvSpPr>
          <p:spPr>
            <a:xfrm>
              <a:off x="663120" y="2734560"/>
              <a:ext cx="203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Ambient Light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Mood”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" name="Rectangle 14"/>
          <p:cNvSpPr/>
          <p:nvPr/>
        </p:nvSpPr>
        <p:spPr>
          <a:xfrm>
            <a:off x="838080" y="342900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a12d3b"/>
                </a:solidFill>
                <a:latin typeface="Angsana New"/>
                <a:ea typeface="Angsana New"/>
              </a:rPr>
              <a:t>Therapeutic environment: psycho-socially supporti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Title 6" descr=""/>
          <p:cNvPicPr/>
          <p:nvPr/>
        </p:nvPicPr>
        <p:blipFill>
          <a:blip r:embed="rId4"/>
          <a:stretch/>
        </p:blipFill>
        <p:spPr>
          <a:xfrm>
            <a:off x="139680" y="-12600"/>
            <a:ext cx="840096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Title 6" descr=""/>
          <p:cNvPicPr/>
          <p:nvPr/>
        </p:nvPicPr>
        <p:blipFill>
          <a:blip r:embed="rId1"/>
          <a:stretch/>
        </p:blipFill>
        <p:spPr>
          <a:xfrm>
            <a:off x="66600" y="30240"/>
            <a:ext cx="8626680" cy="1006560"/>
          </a:xfrm>
          <a:prstGeom prst="rect">
            <a:avLst/>
          </a:prstGeom>
          <a:ln w="0">
            <a:noFill/>
          </a:ln>
        </p:spPr>
      </p:pic>
      <p:sp>
        <p:nvSpPr>
          <p:cNvPr id="288" name="Date Placeholder 13"/>
          <p:cNvSpPr/>
          <p:nvPr/>
        </p:nvSpPr>
        <p:spPr>
          <a:xfrm>
            <a:off x="45720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F2A8-E7E4-4036-ABE7-D2EDC8922639}" type="datetime">
              <a:rPr b="0" lang="en-US" sz="1200" spc="-1" strike="noStrike">
                <a:solidFill>
                  <a:srgbClr val="000000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Footer Placeholder 15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To &amp; Bessa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Slide Number Placeholder 14"/>
          <p:cNvSpPr/>
          <p:nvPr/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53C4-DB30-45B3-9E4F-05B481AF18DB}" type="slidenum">
              <a:rPr b="0" lang="en-US" sz="1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990720" y="12949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51"/>
              </a:spcBef>
              <a:spcAft>
                <a:spcPts val="1199"/>
              </a:spcAft>
              <a:buClr>
                <a:srgbClr val="bfbfb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fbfbf"/>
                </a:solidFill>
                <a:latin typeface="Corbel"/>
              </a:rPr>
              <a:t>Problem &amp; Project Goal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2480" indent="-312480">
              <a:spcBef>
                <a:spcPts val="751"/>
              </a:spcBef>
              <a:spcAft>
                <a:spcPts val="1199"/>
              </a:spcAft>
              <a:buClr>
                <a:srgbClr val="bfbfb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fbfbf"/>
                </a:solidFill>
                <a:latin typeface="Corbel"/>
              </a:rPr>
              <a:t>Background Research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17400" indent="-267480">
              <a:spcBef>
                <a:spcPts val="700"/>
              </a:spcBef>
              <a:spcAft>
                <a:spcPts val="1199"/>
              </a:spcAft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orbel"/>
              </a:rPr>
              <a:t>Patient activities &amp; care zon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17400" indent="-267480">
              <a:spcBef>
                <a:spcPts val="700"/>
              </a:spcBef>
              <a:spcAft>
                <a:spcPts val="1199"/>
              </a:spcAft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orbel"/>
              </a:rPr>
              <a:t>Lighting &amp; colors on psych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12480" indent="-312480"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Design &amp; Concept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312480" indent="-312480">
              <a:spcBef>
                <a:spcPts val="751"/>
              </a:spcBef>
              <a:spcAft>
                <a:spcPts val="1199"/>
              </a:spcAft>
              <a:buClr>
                <a:srgbClr val="bfbfb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fbfbf"/>
                </a:solidFill>
                <a:latin typeface="Corbel"/>
              </a:rPr>
              <a:t>Materials &amp; Budget Proposa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2480" indent="-312480">
              <a:spcBef>
                <a:spcPts val="751"/>
              </a:spcBef>
              <a:spcAft>
                <a:spcPts val="1199"/>
              </a:spcAft>
              <a:buClr>
                <a:srgbClr val="bfbfb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fbfbf"/>
                </a:solidFill>
                <a:latin typeface="Corbel"/>
              </a:rPr>
              <a:t>Discussion &amp; Next Steps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56840" y="1133280"/>
            <a:ext cx="2590920" cy="5181480"/>
          </a:xfrm>
          <a:prstGeom prst="rect">
            <a:avLst/>
          </a:prstGeom>
          <a:noFill/>
          <a:ln w="0">
            <a:noFill/>
          </a:ln>
        </p:spPr>
        <p:txBody>
          <a:bodyPr lIns="45720" r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FOCAL LIGHTING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Enhance visual focus on procedure at hand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rbel"/>
              </a:rPr>
              <a:t>Benefit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Reduce time spent on treatment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Reduce errors due to poor lighting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Increase quality of car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3" name="Content Placeholder 3" descr="focal light1.jpg"/>
          <p:cNvPicPr/>
          <p:nvPr/>
        </p:nvPicPr>
        <p:blipFill>
          <a:blip r:embed="rId1"/>
          <a:stretch/>
        </p:blipFill>
        <p:spPr>
          <a:xfrm>
            <a:off x="3352680" y="1143000"/>
            <a:ext cx="5569200" cy="4176720"/>
          </a:xfrm>
          <a:prstGeom prst="rect">
            <a:avLst/>
          </a:prstGeom>
          <a:ln w="0">
            <a:noFill/>
          </a:ln>
        </p:spPr>
      </p:pic>
      <p:sp>
        <p:nvSpPr>
          <p:cNvPr id="294" name="Date Placeholder 4"/>
          <p:cNvSpPr/>
          <p:nvPr/>
        </p:nvSpPr>
        <p:spPr>
          <a:xfrm>
            <a:off x="45720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A3FE-C340-4AAB-AC57-DD338EE3C109}" type="datetime">
              <a:rPr b="0" lang="en-US" sz="1200" spc="-1" strike="noStrike">
                <a:solidFill>
                  <a:srgbClr val="000000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Footer Placeholder 6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To &amp; Bessa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Slide Number Placeholder 5"/>
          <p:cNvSpPr/>
          <p:nvPr/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6180-D032-4390-AB65-B2602AA29570}" type="slidenum">
              <a:rPr b="0" lang="en-US" sz="1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Title 6" descr=""/>
          <p:cNvPicPr/>
          <p:nvPr/>
        </p:nvPicPr>
        <p:blipFill>
          <a:blip r:embed="rId2"/>
          <a:stretch/>
        </p:blipFill>
        <p:spPr>
          <a:xfrm>
            <a:off x="139680" y="-12600"/>
            <a:ext cx="840096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Date Placeholder 3"/>
          <p:cNvSpPr/>
          <p:nvPr/>
        </p:nvSpPr>
        <p:spPr>
          <a:xfrm>
            <a:off x="45720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01FB-6BAB-4683-BEB3-198899D86DFD}" type="datetime">
              <a:rPr b="0" lang="en-US" sz="1200" spc="-1" strike="noStrike">
                <a:solidFill>
                  <a:srgbClr val="000000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Footer Placeholder 5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To &amp; Bessa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Slide Number Placeholder 4"/>
          <p:cNvSpPr/>
          <p:nvPr/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725F-50D5-4DE2-A779-B3C53A277DF1}" type="slidenum">
              <a:rPr b="0" lang="en-US" sz="1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10"/>
          <p:cNvSpPr/>
          <p:nvPr/>
        </p:nvSpPr>
        <p:spPr>
          <a:xfrm>
            <a:off x="1676520" y="609480"/>
            <a:ext cx="5486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rn Lighting - Morpheus Room – Light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youtube.com/watch?v=uu7p9vcBFM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Title 6" descr=""/>
          <p:cNvPicPr/>
          <p:nvPr/>
        </p:nvPicPr>
        <p:blipFill>
          <a:blip r:embed="rId1"/>
          <a:stretch/>
        </p:blipFill>
        <p:spPr>
          <a:xfrm>
            <a:off x="139680" y="-12600"/>
            <a:ext cx="8400960" cy="426960"/>
          </a:xfrm>
          <a:prstGeom prst="rect">
            <a:avLst/>
          </a:prstGeom>
          <a:ln w="0">
            <a:noFill/>
          </a:ln>
        </p:spPr>
      </p:pic>
      <p:pic>
        <p:nvPicPr>
          <p:cNvPr id="303" name="uu7p9vcBFMc.wmv" descr=""/>
          <p:cNvPicPr/>
          <p:nvPr/>
        </p:nvPicPr>
        <p:blipFill>
          <a:blip r:embed="rId2"/>
          <a:stretch/>
        </p:blipFill>
        <p:spPr>
          <a:xfrm>
            <a:off x="1219320" y="1219320"/>
            <a:ext cx="678168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ate Placeholder 3"/>
          <p:cNvSpPr/>
          <p:nvPr/>
        </p:nvSpPr>
        <p:spPr>
          <a:xfrm>
            <a:off x="45720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D132-F322-4825-AEF4-562458A64256}" type="datetime">
              <a:rPr b="0" lang="en-US" sz="1200" spc="-1" strike="noStrike">
                <a:solidFill>
                  <a:srgbClr val="000000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Footer Placeholder 5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To &amp; Bessa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Slide Number Placeholder 4"/>
          <p:cNvSpPr/>
          <p:nvPr/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25A5-1A9B-409D-BEF3-710F94AE99C7}" type="slidenum">
              <a:rPr b="0" lang="en-US" sz="1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Title 6" descr=""/>
          <p:cNvPicPr/>
          <p:nvPr/>
        </p:nvPicPr>
        <p:blipFill>
          <a:blip r:embed="rId1"/>
          <a:stretch/>
        </p:blipFill>
        <p:spPr>
          <a:xfrm>
            <a:off x="139680" y="-12600"/>
            <a:ext cx="840096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Date Placeholder 3"/>
          <p:cNvSpPr/>
          <p:nvPr/>
        </p:nvSpPr>
        <p:spPr>
          <a:xfrm>
            <a:off x="45720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C15D-A4DB-4262-B8D6-C3F802562B13}" type="datetime">
              <a:rPr b="0" lang="en-US" sz="1200" spc="-1" strike="noStrike">
                <a:solidFill>
                  <a:srgbClr val="000000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Footer Placeholder 5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To &amp; Bessa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976B-921D-4EEA-9BAD-6CA3A887042D}" type="slidenum">
              <a:rPr b="0" lang="en-US" sz="1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Title 6" descr=""/>
          <p:cNvPicPr/>
          <p:nvPr/>
        </p:nvPicPr>
        <p:blipFill>
          <a:blip r:embed="rId1"/>
          <a:stretch/>
        </p:blipFill>
        <p:spPr>
          <a:xfrm>
            <a:off x="139680" y="-12600"/>
            <a:ext cx="840096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6" descr=""/>
          <p:cNvPicPr/>
          <p:nvPr/>
        </p:nvPicPr>
        <p:blipFill>
          <a:blip r:embed="rId1"/>
          <a:stretch/>
        </p:blipFill>
        <p:spPr>
          <a:xfrm>
            <a:off x="66600" y="30240"/>
            <a:ext cx="8626680" cy="1006560"/>
          </a:xfrm>
          <a:prstGeom prst="rect">
            <a:avLst/>
          </a:prstGeom>
          <a:ln w="0">
            <a:noFill/>
          </a:ln>
        </p:spPr>
      </p:pic>
      <p:sp>
        <p:nvSpPr>
          <p:cNvPr id="313" name="Date Placeholder 13"/>
          <p:cNvSpPr/>
          <p:nvPr/>
        </p:nvSpPr>
        <p:spPr>
          <a:xfrm>
            <a:off x="45720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9295-E5CE-413A-B9A3-2915CEACFBA9}" type="datetime">
              <a:rPr b="0" lang="en-US" sz="1200" spc="-1" strike="noStrike">
                <a:solidFill>
                  <a:srgbClr val="000000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Footer Placeholder 15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To &amp; Bessa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Slide Number Placeholder 14"/>
          <p:cNvSpPr/>
          <p:nvPr/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7033-55D3-4F81-BEB8-A541AC1C8A39}" type="slidenum">
              <a:rPr b="0" lang="en-US" sz="1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90720" y="12949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51"/>
              </a:spcBef>
              <a:spcAft>
                <a:spcPts val="1199"/>
              </a:spcAft>
              <a:buClr>
                <a:srgbClr val="bfbfb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fbfbf"/>
                </a:solidFill>
                <a:latin typeface="Corbel"/>
              </a:rPr>
              <a:t>Problem &amp; Project Goal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09240" indent="-309240">
              <a:spcBef>
                <a:spcPts val="751"/>
              </a:spcBef>
              <a:spcAft>
                <a:spcPts val="1199"/>
              </a:spcAft>
              <a:buClr>
                <a:srgbClr val="bfbfb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fbfbf"/>
                </a:solidFill>
                <a:latin typeface="Corbel"/>
              </a:rPr>
              <a:t>Background Research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11280" indent="-264960">
              <a:spcBef>
                <a:spcPts val="700"/>
              </a:spcBef>
              <a:spcAft>
                <a:spcPts val="1199"/>
              </a:spcAft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orbel"/>
              </a:rPr>
              <a:t>Patient activities &amp; care zon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11280" indent="-264960">
              <a:spcBef>
                <a:spcPts val="700"/>
              </a:spcBef>
              <a:spcAft>
                <a:spcPts val="1199"/>
              </a:spcAft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orbel"/>
              </a:rPr>
              <a:t>Lighting &amp; colors on psych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09240" indent="-309240">
              <a:spcBef>
                <a:spcPts val="751"/>
              </a:spcBef>
              <a:spcAft>
                <a:spcPts val="1199"/>
              </a:spcAft>
              <a:buClr>
                <a:srgbClr val="bfbfb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fbfbf"/>
                </a:solidFill>
                <a:latin typeface="Corbel"/>
              </a:rPr>
              <a:t>Design &amp; Concep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09240" indent="-309240"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Materials &amp; Budget Proposal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309240" indent="-309240">
              <a:spcBef>
                <a:spcPts val="751"/>
              </a:spcBef>
              <a:spcAft>
                <a:spcPts val="1199"/>
              </a:spcAft>
              <a:buClr>
                <a:srgbClr val="bfbfb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fbfbf"/>
                </a:solidFill>
                <a:latin typeface="Corbel"/>
              </a:rPr>
              <a:t>Discussion &amp; Next Steps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Date Placeholder 3"/>
          <p:cNvSpPr/>
          <p:nvPr/>
        </p:nvSpPr>
        <p:spPr>
          <a:xfrm>
            <a:off x="45720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7DE3-9264-4ADA-B522-0DC0FB85496D}" type="datetime">
              <a:rPr b="0" lang="en-US" sz="1200" spc="-1" strike="noStrike">
                <a:solidFill>
                  <a:srgbClr val="000000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Footer Placeholder 5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To &amp; Bessa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47A7-2026-4FD1-8A83-42C33D44CEF4}" type="slidenum">
              <a:rPr b="0" lang="en-US" sz="1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Title 6" descr=""/>
          <p:cNvPicPr/>
          <p:nvPr/>
        </p:nvPicPr>
        <p:blipFill>
          <a:blip r:embed="rId1"/>
          <a:stretch/>
        </p:blipFill>
        <p:spPr>
          <a:xfrm>
            <a:off x="139680" y="-12600"/>
            <a:ext cx="8400960" cy="4269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5" descr=""/>
          <p:cNvPicPr/>
          <p:nvPr/>
        </p:nvPicPr>
        <p:blipFill>
          <a:blip r:embed="rId2"/>
          <a:srcRect l="47223" t="23113" r="10000" b="7555"/>
          <a:stretch/>
        </p:blipFill>
        <p:spPr>
          <a:xfrm>
            <a:off x="304920" y="457200"/>
            <a:ext cx="5867280" cy="5943600"/>
          </a:xfrm>
          <a:prstGeom prst="rect">
            <a:avLst/>
          </a:prstGeom>
          <a:ln w="0">
            <a:noFill/>
          </a:ln>
        </p:spPr>
      </p:pic>
      <p:sp>
        <p:nvSpPr>
          <p:cNvPr id="322" name="TextBox 12"/>
          <p:cNvSpPr/>
          <p:nvPr/>
        </p:nvSpPr>
        <p:spPr>
          <a:xfrm>
            <a:off x="6324480" y="2438280"/>
            <a:ext cx="2684520" cy="1798920"/>
          </a:xfrm>
          <a:prstGeom prst="rect">
            <a:avLst/>
          </a:prstGeom>
          <a:noFill/>
          <a:ln w="9360">
            <a:solidFill>
              <a:srgbClr val="ff1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ies breakdow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D Lights, power supply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 automated control - $1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Lights -$2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Budget Proposal: $12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6" descr=""/>
          <p:cNvPicPr/>
          <p:nvPr/>
        </p:nvPicPr>
        <p:blipFill>
          <a:blip r:embed="rId1"/>
          <a:stretch/>
        </p:blipFill>
        <p:spPr>
          <a:xfrm>
            <a:off x="66600" y="30240"/>
            <a:ext cx="8626680" cy="1006560"/>
          </a:xfrm>
          <a:prstGeom prst="rect">
            <a:avLst/>
          </a:prstGeom>
          <a:ln w="0">
            <a:noFill/>
          </a:ln>
        </p:spPr>
      </p:pic>
      <p:sp>
        <p:nvSpPr>
          <p:cNvPr id="324" name="Date Placeholder 13"/>
          <p:cNvSpPr/>
          <p:nvPr/>
        </p:nvSpPr>
        <p:spPr>
          <a:xfrm>
            <a:off x="45720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F01E-FB97-4E47-971A-10D791230E06}" type="datetime">
              <a:rPr b="0" lang="en-US" sz="1200" spc="-1" strike="noStrike">
                <a:solidFill>
                  <a:srgbClr val="000000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Footer Placeholder 15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To &amp; Bessa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Slide Number Placeholder 14"/>
          <p:cNvSpPr/>
          <p:nvPr/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8641-BDB3-4BE6-AED0-56DFFFCB2C88}" type="slidenum">
              <a:rPr b="0" lang="en-US" sz="1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990720" y="12949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51"/>
              </a:spcBef>
              <a:spcAft>
                <a:spcPts val="1199"/>
              </a:spcAft>
              <a:buClr>
                <a:srgbClr val="bfbfb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fbfbf"/>
                </a:solidFill>
                <a:latin typeface="Corbel"/>
              </a:rPr>
              <a:t>Problem &amp; Project Goal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2480" indent="-312480">
              <a:spcBef>
                <a:spcPts val="751"/>
              </a:spcBef>
              <a:spcAft>
                <a:spcPts val="1199"/>
              </a:spcAft>
              <a:buClr>
                <a:srgbClr val="bfbfb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fbfbf"/>
                </a:solidFill>
                <a:latin typeface="Corbel"/>
              </a:rPr>
              <a:t>Background Research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17400" indent="-267480">
              <a:spcBef>
                <a:spcPts val="700"/>
              </a:spcBef>
              <a:spcAft>
                <a:spcPts val="1199"/>
              </a:spcAft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orbel"/>
              </a:rPr>
              <a:t>Patient activities &amp; care zon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17400" indent="-267480">
              <a:spcBef>
                <a:spcPts val="700"/>
              </a:spcBef>
              <a:spcAft>
                <a:spcPts val="1199"/>
              </a:spcAft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orbel"/>
              </a:rPr>
              <a:t>Lighting &amp; colors on psych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12480" indent="-312480">
              <a:spcBef>
                <a:spcPts val="751"/>
              </a:spcBef>
              <a:spcAft>
                <a:spcPts val="1199"/>
              </a:spcAft>
              <a:buClr>
                <a:srgbClr val="bfbfb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fbfbf"/>
                </a:solidFill>
                <a:latin typeface="Corbel"/>
              </a:rPr>
              <a:t>Design &amp; Concep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2480" indent="-312480">
              <a:spcBef>
                <a:spcPts val="751"/>
              </a:spcBef>
              <a:spcAft>
                <a:spcPts val="1199"/>
              </a:spcAft>
              <a:buClr>
                <a:srgbClr val="bfbfb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fbfbf"/>
                </a:solidFill>
                <a:latin typeface="Corbel"/>
              </a:rPr>
              <a:t>Materials &amp; Budget Proposa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2480" indent="-312480"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Discussion &amp; Next Steps 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3"/>
          <p:cNvSpPr/>
          <p:nvPr/>
        </p:nvSpPr>
        <p:spPr>
          <a:xfrm>
            <a:off x="45720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777A-F9E4-4240-8C64-CD87D4612AF5}" type="datetime">
              <a:rPr b="0" lang="en-US" sz="1200" spc="-1" strike="noStrike">
                <a:solidFill>
                  <a:srgbClr val="000000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Footer Placeholder 5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To &amp; Bessa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Slide Number Placeholder 4"/>
          <p:cNvSpPr/>
          <p:nvPr/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F1FC-86C6-4F37-BBFE-582C6FE62830}" type="slidenum">
              <a:rPr b="0" lang="en-US" sz="1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Title 6" descr=""/>
          <p:cNvPicPr/>
          <p:nvPr/>
        </p:nvPicPr>
        <p:blipFill>
          <a:blip r:embed="rId1"/>
          <a:stretch/>
        </p:blipFill>
        <p:spPr>
          <a:xfrm>
            <a:off x="139680" y="-12600"/>
            <a:ext cx="8400960" cy="42696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12"/>
          <p:cNvSpPr/>
          <p:nvPr/>
        </p:nvSpPr>
        <p:spPr>
          <a:xfrm>
            <a:off x="304920" y="4648320"/>
            <a:ext cx="8610480" cy="160020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eeeeee"/>
              </a:gs>
            </a:gsLst>
            <a:lin ang="16200000"/>
          </a:gradFill>
          <a:ln w="25560">
            <a:solidFill>
              <a:srgbClr val="9532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NEXT STEP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Visit emergency departments and talk to the physician and staff about what their preference and needs for lights ar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Willingness to try the new lighting syste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ntact potential suppliers (ex: Color Kinetics) </a:t>
            </a: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sponsorship and/or discount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304920" y="533520"/>
            <a:ext cx="8610480" cy="39621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eeeeee"/>
              </a:gs>
            </a:gsLst>
            <a:lin ang="5400000"/>
          </a:gradFill>
          <a:ln w="25560">
            <a:solidFill>
              <a:srgbClr val="9532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DISCUSSIO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Project Defined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Not focused on the electrical engineering part (PCB schematic, etc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cus on incorporating available technology in an innovative way to enhance patient experience in the ED room and also provide quality lighting for staff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e existing technology comes in various forms (all should be user controlled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1. programmable LED mood light panel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2. strips lighting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3. changing LED lights projected onto the wall / ceil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e multi-color changing LED lights technology is implemented mostly for entertainment industry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oncerns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und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ow to integrate this light technology into existing room in HSI build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6" descr=""/>
          <p:cNvPicPr/>
          <p:nvPr/>
        </p:nvPicPr>
        <p:blipFill>
          <a:blip r:embed="rId1"/>
          <a:stretch/>
        </p:blipFill>
        <p:spPr>
          <a:xfrm>
            <a:off x="66600" y="30240"/>
            <a:ext cx="8626680" cy="1006560"/>
          </a:xfrm>
          <a:prstGeom prst="rect">
            <a:avLst/>
          </a:prstGeom>
          <a:ln w="0">
            <a:noFill/>
          </a:ln>
        </p:spPr>
      </p:pic>
      <p:sp>
        <p:nvSpPr>
          <p:cNvPr id="225" name="Date Placeholder 13"/>
          <p:cNvSpPr/>
          <p:nvPr/>
        </p:nvSpPr>
        <p:spPr>
          <a:xfrm>
            <a:off x="45720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973B-A66E-4324-A9F7-23E8DA0EF032}" type="datetime">
              <a:rPr b="0" lang="en-US" sz="1200" spc="-1" strike="noStrike">
                <a:solidFill>
                  <a:srgbClr val="000000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Footer Placeholder 15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To &amp; Bessa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Slide Number Placeholder 14"/>
          <p:cNvSpPr/>
          <p:nvPr/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CE3A-EFEC-4D41-A992-653193A46E5B}" type="slidenum">
              <a:rPr b="0" lang="en-US" sz="1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914400" y="12189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Problem &amp; Project Goal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Background Research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atient activities &amp; care zon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ighting &amp; colors on psych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Design &amp; Concep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Materials &amp; Budget Proposa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Discussion &amp; Next Steps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66600" y="30240"/>
            <a:ext cx="8626680" cy="1006560"/>
          </a:xfrm>
          <a:prstGeom prst="rect">
            <a:avLst/>
          </a:prstGeom>
          <a:ln w="0">
            <a:noFill/>
          </a:ln>
        </p:spPr>
      </p:pic>
      <p:sp>
        <p:nvSpPr>
          <p:cNvPr id="335" name="Date Placeholder 2"/>
          <p:cNvSpPr/>
          <p:nvPr/>
        </p:nvSpPr>
        <p:spPr>
          <a:xfrm>
            <a:off x="45720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CF21-FF41-4650-8F90-16FB96B71BB4}" type="datetime">
              <a:rPr b="0" lang="en-US" sz="1200" spc="-1" strike="noStrike">
                <a:solidFill>
                  <a:srgbClr val="bcb7a8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Footer Placeholder 3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Corbel"/>
              </a:rPr>
              <a:t>To &amp; Bessa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Slide Number Placeholder 4"/>
          <p:cNvSpPr/>
          <p:nvPr/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10DF-DAA8-4CC0-BE31-7C1ABF464242}" type="slidenum">
              <a:rPr b="0" lang="en-US" sz="1400" spc="-1" strike="noStrike">
                <a:solidFill>
                  <a:srgbClr val="bcb7a8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2" descr="C:\Users\My Ngoc\Desktop\Ti Stuffs\universal room\intense colors.jpg"/>
          <p:cNvPicPr/>
          <p:nvPr/>
        </p:nvPicPr>
        <p:blipFill>
          <a:blip r:embed="rId2"/>
          <a:stretch/>
        </p:blipFill>
        <p:spPr>
          <a:xfrm>
            <a:off x="380880" y="1676520"/>
            <a:ext cx="3086280" cy="4114800"/>
          </a:xfrm>
          <a:prstGeom prst="rect">
            <a:avLst/>
          </a:prstGeom>
          <a:ln w="0">
            <a:noFill/>
          </a:ln>
        </p:spPr>
      </p:pic>
      <p:sp>
        <p:nvSpPr>
          <p:cNvPr id="339" name="TextBox 7"/>
          <p:cNvSpPr/>
          <p:nvPr/>
        </p:nvSpPr>
        <p:spPr>
          <a:xfrm>
            <a:off x="3189960" y="3962520"/>
            <a:ext cx="60710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Corbel"/>
              </a:rPr>
              <a:t>Contact information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Kelly To: </a:t>
            </a:r>
            <a:r>
              <a:rPr b="1" lang="en-US" sz="2200" spc="-1" strike="noStrike">
                <a:solidFill>
                  <a:srgbClr val="6701fd"/>
                </a:solidFill>
                <a:latin typeface="Corbel"/>
              </a:rPr>
              <a:t>bto@gatech.ed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Malek Bessaad: </a:t>
            </a:r>
            <a:r>
              <a:rPr b="1" lang="en-US" sz="2200" spc="-1" strike="noStrike">
                <a:solidFill>
                  <a:srgbClr val="6701fd"/>
                </a:solidFill>
                <a:latin typeface="Corbel"/>
              </a:rPr>
              <a:t>malek.bessaad@gmail.co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6" descr=""/>
          <p:cNvPicPr/>
          <p:nvPr/>
        </p:nvPicPr>
        <p:blipFill>
          <a:blip r:embed="rId1"/>
          <a:stretch/>
        </p:blipFill>
        <p:spPr>
          <a:xfrm>
            <a:off x="66600" y="30240"/>
            <a:ext cx="8626680" cy="1006560"/>
          </a:xfrm>
          <a:prstGeom prst="rect">
            <a:avLst/>
          </a:prstGeom>
          <a:ln w="0">
            <a:noFill/>
          </a:ln>
        </p:spPr>
      </p:pic>
      <p:sp>
        <p:nvSpPr>
          <p:cNvPr id="230" name="Date Placeholder 13"/>
          <p:cNvSpPr/>
          <p:nvPr/>
        </p:nvSpPr>
        <p:spPr>
          <a:xfrm>
            <a:off x="45720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5037-040B-43E9-BD88-780486B5A77D}" type="datetime">
              <a:rPr b="0" lang="en-US" sz="1200" spc="-1" strike="noStrike">
                <a:solidFill>
                  <a:srgbClr val="000000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Footer Placeholder 15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To &amp; Bessa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Slide Number Placeholder 14"/>
          <p:cNvSpPr/>
          <p:nvPr/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53A7-AECA-4D01-8899-49521FE704CA}" type="slidenum">
              <a:rPr b="0" lang="en-US" sz="1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90720" y="12949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Problem &amp; Project Goal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312480" indent="-312480"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fbfbf"/>
                </a:solidFill>
                <a:latin typeface="Corbel"/>
              </a:rPr>
              <a:t>Background Research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17400" indent="-26748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orbel"/>
              </a:rPr>
              <a:t>Patient activities &amp; care zon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17400" indent="-26748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orbel"/>
              </a:rPr>
              <a:t>Lighting &amp; colors on psych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12480" indent="-312480"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fbfbf"/>
                </a:solidFill>
                <a:latin typeface="Corbel"/>
              </a:rPr>
              <a:t>Design &amp; Concep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2480" indent="-312480"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fbfbf"/>
                </a:solidFill>
                <a:latin typeface="Corbel"/>
              </a:rPr>
              <a:t>Materials &amp; Budget Proposa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2480" indent="-312480"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fbfbf"/>
                </a:solidFill>
                <a:latin typeface="Corbel"/>
              </a:rPr>
              <a:t>Discussion &amp; Next Steps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6" descr=""/>
          <p:cNvPicPr/>
          <p:nvPr/>
        </p:nvPicPr>
        <p:blipFill>
          <a:blip r:embed="rId1"/>
          <a:stretch/>
        </p:blipFill>
        <p:spPr>
          <a:xfrm>
            <a:off x="139680" y="-12600"/>
            <a:ext cx="8400960" cy="4269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5638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45720" rIns="0" anchor="t">
            <a:norm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Both goals should produce economically cost-effective solutions. The proposed lighting system should be relatively affordable while incurring higher magnitude in benefits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Date Placeholder 3"/>
          <p:cNvSpPr/>
          <p:nvPr/>
        </p:nvSpPr>
        <p:spPr>
          <a:xfrm>
            <a:off x="45720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4CA1-4664-4509-A09F-1A10BB14F13B}" type="datetime">
              <a:rPr b="0" lang="en-US" sz="1200" spc="-1" strike="noStrike">
                <a:solidFill>
                  <a:srgbClr val="000000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Footer Placeholder 5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To &amp; Bessa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4436-D847-4493-A20B-6A48F62CC6D9}" type="slidenum">
              <a:rPr b="0" lang="en-US" sz="1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304920" y="609480"/>
            <a:ext cx="8458200" cy="1676520"/>
          </a:xfrm>
          <a:prstGeom prst="rect">
            <a:avLst/>
          </a:prstGeom>
          <a:solidFill>
            <a:srgbClr val="ffffff"/>
          </a:solidFill>
          <a:ln w="25560">
            <a:solidFill>
              <a:srgbClr val="9532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BLE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ufficient lighting in the emergency ro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ti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stale atmosphere and unwelcoming environment could affect healing process due to psycho-physiological effec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hysician &amp; nurs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poor quality lighting prevents accurate vision could lead to poor treatment &amp; extended time spent on proced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304920" y="2438280"/>
            <a:ext cx="8458200" cy="3124440"/>
          </a:xfrm>
          <a:prstGeom prst="rect">
            <a:avLst/>
          </a:prstGeom>
          <a:gradFill rotWithShape="0">
            <a:gsLst>
              <a:gs pos="0">
                <a:srgbClr val="d8d8d8"/>
              </a:gs>
              <a:gs pos="100000">
                <a:srgbClr val="f2f2f2"/>
              </a:gs>
            </a:gsLst>
            <a:lin ang="16200000"/>
          </a:gradFill>
          <a:ln w="25560">
            <a:solidFill>
              <a:srgbClr val="9532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GOALS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improve lighting in the emergency room for both the patient and healthcare staff throug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orporate mood lighting into the room with user control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ealing enviro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ositive distrac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Provide healthcare staff with quality focal lighting to improve vision during proced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Quality light for different specialized proced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Quick and easy contro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6" descr=""/>
          <p:cNvPicPr/>
          <p:nvPr/>
        </p:nvPicPr>
        <p:blipFill>
          <a:blip r:embed="rId1"/>
          <a:stretch/>
        </p:blipFill>
        <p:spPr>
          <a:xfrm>
            <a:off x="66600" y="30240"/>
            <a:ext cx="8626680" cy="1006560"/>
          </a:xfrm>
          <a:prstGeom prst="rect">
            <a:avLst/>
          </a:prstGeom>
          <a:ln w="0">
            <a:noFill/>
          </a:ln>
        </p:spPr>
      </p:pic>
      <p:sp>
        <p:nvSpPr>
          <p:cNvPr id="242" name="Date Placeholder 13"/>
          <p:cNvSpPr/>
          <p:nvPr/>
        </p:nvSpPr>
        <p:spPr>
          <a:xfrm>
            <a:off x="45720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AE69-4F0C-4DE4-B58E-3CD4C1E8AAE1}" type="datetime">
              <a:rPr b="0" lang="en-US" sz="1200" spc="-1" strike="noStrike">
                <a:solidFill>
                  <a:srgbClr val="000000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Footer Placeholder 15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To &amp; Bessa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Slide Number Placeholder 14"/>
          <p:cNvSpPr/>
          <p:nvPr/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6ABC-151A-44AD-895B-73BEA63FEC45}" type="slidenum">
              <a:rPr b="0" lang="en-US" sz="1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90720" y="12949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51"/>
              </a:spcBef>
              <a:spcAft>
                <a:spcPts val="1199"/>
              </a:spcAft>
              <a:buClr>
                <a:srgbClr val="bfbfb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fbfbf"/>
                </a:solidFill>
                <a:latin typeface="Corbel"/>
              </a:rPr>
              <a:t>Problem &amp; Project Goal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2480" indent="-312480"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Background Research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lvl="1" marL="617400" indent="-26748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Patient activities &amp; care zon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17400" indent="-26748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Lighting &amp; colors on psych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12480" indent="-312480">
              <a:spcBef>
                <a:spcPts val="751"/>
              </a:spcBef>
              <a:spcAft>
                <a:spcPts val="1199"/>
              </a:spcAft>
              <a:buClr>
                <a:srgbClr val="bfbfb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fbfbf"/>
                </a:solidFill>
                <a:latin typeface="Corbel"/>
              </a:rPr>
              <a:t>Design &amp; Concep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2480" indent="-312480">
              <a:spcBef>
                <a:spcPts val="751"/>
              </a:spcBef>
              <a:spcAft>
                <a:spcPts val="1199"/>
              </a:spcAft>
              <a:buClr>
                <a:srgbClr val="bfbfb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fbfbf"/>
                </a:solidFill>
                <a:latin typeface="Corbel"/>
              </a:rPr>
              <a:t>Materials &amp; Budget Proposa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2480" indent="-312480">
              <a:spcBef>
                <a:spcPts val="751"/>
              </a:spcBef>
              <a:spcAft>
                <a:spcPts val="1199"/>
              </a:spcAft>
              <a:buClr>
                <a:srgbClr val="bfbfb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fbfbf"/>
                </a:solidFill>
                <a:latin typeface="Corbel"/>
              </a:rPr>
              <a:t>Discussion &amp; Next Steps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Content Placeholder 12" descr="patient care related activities.jpg"/>
          <p:cNvPicPr/>
          <p:nvPr/>
        </p:nvPicPr>
        <p:blipFill>
          <a:blip r:embed="rId1">
            <a:lum contrast="40000"/>
          </a:blip>
          <a:srcRect l="0" t="10141" r="0" b="2926"/>
          <a:stretch/>
        </p:blipFill>
        <p:spPr>
          <a:xfrm>
            <a:off x="533520" y="533520"/>
            <a:ext cx="8229600" cy="5394240"/>
          </a:xfrm>
          <a:prstGeom prst="rect">
            <a:avLst/>
          </a:prstGeom>
          <a:ln w="0">
            <a:noFill/>
          </a:ln>
        </p:spPr>
      </p:pic>
      <p:sp>
        <p:nvSpPr>
          <p:cNvPr id="247" name="Date Placeholder 13"/>
          <p:cNvSpPr/>
          <p:nvPr/>
        </p:nvSpPr>
        <p:spPr>
          <a:xfrm>
            <a:off x="45720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BF0F-E814-4EF3-8C31-8AA72479F1A9}" type="datetime">
              <a:rPr b="0" lang="en-US" sz="1200" spc="-1" strike="noStrike">
                <a:solidFill>
                  <a:srgbClr val="000000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Footer Placeholder 15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To &amp; Bessa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Slide Number Placeholder 14"/>
          <p:cNvSpPr/>
          <p:nvPr/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3D6D-4E74-4E05-BA0F-765A999D5958}" type="slidenum">
              <a:rPr b="0" lang="en-US" sz="1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1447920" y="6019920"/>
            <a:ext cx="6476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lant D., and Lanning K. Streamlining Patient Care Processes through Flexible Room and Equipment Design. Planning and Design. Critical Care Nursing. 2001; 24(3):59-76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Title 6" descr=""/>
          <p:cNvPicPr/>
          <p:nvPr/>
        </p:nvPicPr>
        <p:blipFill>
          <a:blip r:embed="rId2"/>
          <a:stretch/>
        </p:blipFill>
        <p:spPr>
          <a:xfrm>
            <a:off x="139680" y="-12600"/>
            <a:ext cx="840096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Content Placeholder 3" descr="activity.frequency.jpg"/>
          <p:cNvPicPr/>
          <p:nvPr/>
        </p:nvPicPr>
        <p:blipFill>
          <a:blip r:embed="rId1"/>
          <a:srcRect l="0" t="4033" r="1086" b="7224"/>
          <a:stretch/>
        </p:blipFill>
        <p:spPr>
          <a:xfrm>
            <a:off x="609480" y="990720"/>
            <a:ext cx="7848720" cy="5032080"/>
          </a:xfrm>
          <a:prstGeom prst="rect">
            <a:avLst/>
          </a:prstGeom>
          <a:ln w="0">
            <a:noFill/>
          </a:ln>
        </p:spPr>
      </p:pic>
      <p:sp>
        <p:nvSpPr>
          <p:cNvPr id="253" name="Date Placeholder 4"/>
          <p:cNvSpPr/>
          <p:nvPr/>
        </p:nvSpPr>
        <p:spPr>
          <a:xfrm>
            <a:off x="45720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3389-F6FD-4CB2-8AF4-511C4FA6EBBB}" type="datetime">
              <a:rPr b="0" lang="en-US" sz="1200" spc="-1" strike="noStrike">
                <a:solidFill>
                  <a:srgbClr val="000000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Footer Placeholder 6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To &amp; Bessa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346C-9D3A-4AD9-A179-E21B9F553379}" type="slidenum">
              <a:rPr b="0" lang="en-US" sz="1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9"/>
          <p:cNvSpPr/>
          <p:nvPr/>
        </p:nvSpPr>
        <p:spPr>
          <a:xfrm>
            <a:off x="1447920" y="6019920"/>
            <a:ext cx="6476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lant D., and Lanning K. Streamlining Patient Care Processes through Flexible Room and Equipment Design. Planning and Design. Critical Care Nursing. 2001; 24(3):59-76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Title 6" descr=""/>
          <p:cNvPicPr/>
          <p:nvPr/>
        </p:nvPicPr>
        <p:blipFill>
          <a:blip r:embed="rId2"/>
          <a:stretch/>
        </p:blipFill>
        <p:spPr>
          <a:xfrm>
            <a:off x="139680" y="-12600"/>
            <a:ext cx="840096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Content Placeholder 3" descr="care actity zone.jpg"/>
          <p:cNvPicPr/>
          <p:nvPr/>
        </p:nvPicPr>
        <p:blipFill>
          <a:blip r:embed="rId1"/>
          <a:srcRect l="0" t="0" r="1219" b="7187"/>
          <a:stretch/>
        </p:blipFill>
        <p:spPr>
          <a:xfrm>
            <a:off x="914400" y="533520"/>
            <a:ext cx="7281720" cy="5486400"/>
          </a:xfrm>
          <a:prstGeom prst="rect">
            <a:avLst/>
          </a:prstGeom>
          <a:ln w="0">
            <a:noFill/>
          </a:ln>
        </p:spPr>
      </p:pic>
      <p:sp>
        <p:nvSpPr>
          <p:cNvPr id="259" name="Date Placeholder 4"/>
          <p:cNvSpPr/>
          <p:nvPr/>
        </p:nvSpPr>
        <p:spPr>
          <a:xfrm>
            <a:off x="45720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8A0C-2F9A-4537-B8D1-C4B9FBA374B6}" type="datetime">
              <a:rPr b="0" lang="en-US" sz="1200" spc="-1" strike="noStrike">
                <a:solidFill>
                  <a:srgbClr val="000000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Footer Placeholder 6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To &amp; Bessa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Slide Number Placeholder 5"/>
          <p:cNvSpPr/>
          <p:nvPr/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7ADA-843A-437A-9DD3-4D32FD5A996F}" type="slidenum">
              <a:rPr b="0" lang="en-US" sz="1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1447920" y="6019920"/>
            <a:ext cx="6476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lant D., and Lanning K. Streamlining Patient Care Processes through Flexible Room and Equipment Design. Planning and Design. Critical Care Nursing. 2001; 24(3):59-76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Title 6" descr=""/>
          <p:cNvPicPr/>
          <p:nvPr/>
        </p:nvPicPr>
        <p:blipFill>
          <a:blip r:embed="rId2"/>
          <a:stretch/>
        </p:blipFill>
        <p:spPr>
          <a:xfrm>
            <a:off x="139680" y="-12600"/>
            <a:ext cx="840096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Title 1" descr=""/>
          <p:cNvPicPr/>
          <p:nvPr/>
        </p:nvPicPr>
        <p:blipFill>
          <a:blip r:embed="rId1"/>
          <a:stretch/>
        </p:blipFill>
        <p:spPr>
          <a:xfrm>
            <a:off x="1268280" y="974880"/>
            <a:ext cx="2664000" cy="426960"/>
          </a:xfrm>
          <a:prstGeom prst="rect">
            <a:avLst/>
          </a:prstGeom>
          <a:ln w="0">
            <a:noFill/>
          </a:ln>
        </p:spPr>
      </p:pic>
      <p:sp>
        <p:nvSpPr>
          <p:cNvPr id="265" name="Date Placeholder 3"/>
          <p:cNvSpPr/>
          <p:nvPr/>
        </p:nvSpPr>
        <p:spPr>
          <a:xfrm>
            <a:off x="45720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2A0C-DC21-4F30-A5B8-F461B2359AD3}" type="datetime">
              <a:rPr b="0" lang="en-US" sz="1200" spc="-1" strike="noStrike">
                <a:solidFill>
                  <a:srgbClr val="000000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Footer Placeholder 5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To &amp; Bessa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2F16-69FE-45F2-97B6-ACECE5A89D87}" type="slidenum">
              <a:rPr b="0" lang="en-US" sz="1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2" descr="C:\Users\My Ngoc\Desktop\Ti Stuffs\universal room\ColorWheelText_NEW_400pxl.jpg"/>
          <p:cNvPicPr/>
          <p:nvPr/>
        </p:nvPicPr>
        <p:blipFill>
          <a:blip r:embed="rId2"/>
          <a:stretch/>
        </p:blipFill>
        <p:spPr>
          <a:xfrm>
            <a:off x="457200" y="1371600"/>
            <a:ext cx="4376880" cy="43434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:\Users\My Ngoc\Desktop\Ti Stuffs\universal room\brain_colors.jpg"/>
          <p:cNvPicPr/>
          <p:nvPr/>
        </p:nvPicPr>
        <p:blipFill>
          <a:blip r:embed="rId3"/>
          <a:stretch/>
        </p:blipFill>
        <p:spPr>
          <a:xfrm>
            <a:off x="5334120" y="3962520"/>
            <a:ext cx="2286000" cy="26575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C:\Users\My Ngoc\Desktop\Ti Stuffs\universal room\psychology.light.jpg"/>
          <p:cNvPicPr/>
          <p:nvPr/>
        </p:nvPicPr>
        <p:blipFill>
          <a:blip r:embed="rId4"/>
          <a:stretch/>
        </p:blipFill>
        <p:spPr>
          <a:xfrm>
            <a:off x="6172200" y="914400"/>
            <a:ext cx="2590920" cy="2760840"/>
          </a:xfrm>
          <a:prstGeom prst="rect">
            <a:avLst/>
          </a:prstGeom>
          <a:ln w="0">
            <a:noFill/>
          </a:ln>
        </p:spPr>
      </p:pic>
      <p:pic>
        <p:nvPicPr>
          <p:cNvPr id="271" name="Straight Arrow Connector 14" descr=""/>
          <p:cNvPicPr/>
          <p:nvPr/>
        </p:nvPicPr>
        <p:blipFill>
          <a:blip r:embed="rId5"/>
          <a:stretch/>
        </p:blipFill>
        <p:spPr>
          <a:xfrm>
            <a:off x="7564320" y="3760920"/>
            <a:ext cx="744480" cy="1122120"/>
          </a:xfrm>
          <a:prstGeom prst="rect">
            <a:avLst/>
          </a:prstGeom>
          <a:ln w="0">
            <a:noFill/>
          </a:ln>
        </p:spPr>
      </p:pic>
      <p:pic>
        <p:nvPicPr>
          <p:cNvPr id="272" name="Straight Arrow Connector 16" descr=""/>
          <p:cNvPicPr/>
          <p:nvPr/>
        </p:nvPicPr>
        <p:blipFill>
          <a:blip r:embed="rId6"/>
          <a:stretch/>
        </p:blipFill>
        <p:spPr>
          <a:xfrm>
            <a:off x="4127400" y="5230800"/>
            <a:ext cx="1114560" cy="414360"/>
          </a:xfrm>
          <a:prstGeom prst="rect">
            <a:avLst/>
          </a:prstGeom>
          <a:ln w="0">
            <a:noFill/>
          </a:ln>
        </p:spPr>
      </p:pic>
      <p:pic>
        <p:nvPicPr>
          <p:cNvPr id="273" name="Title 6" descr=""/>
          <p:cNvPicPr/>
          <p:nvPr/>
        </p:nvPicPr>
        <p:blipFill>
          <a:blip r:embed="rId7"/>
          <a:stretch/>
        </p:blipFill>
        <p:spPr>
          <a:xfrm>
            <a:off x="139680" y="-12600"/>
            <a:ext cx="840096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02:23:27Z</dcterms:created>
  <dc:creator>My Ngoc</dc:creator>
  <dc:description/>
  <dc:language>en-US</dc:language>
  <cp:lastModifiedBy>My Ngoc</cp:lastModifiedBy>
  <dcterms:modified xsi:type="dcterms:W3CDTF">2008-10-28T05:20:25Z</dcterms:modified>
  <cp:revision>39</cp:revision>
  <dc:subject/>
  <dc:title>Lighting in Emergency room</dc:title>
</cp:coreProperties>
</file>